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B844-2825-49FB-8F60-04E1F18AF8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692B-9891-4853-8A2F-11FB6E5FC1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uch better to divert washwater down sanitary sewer rather than storm sewer due to the processing that the treatment plants perform.  Storm sewers usually enter directly into the watersh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34C4-DAD0-49B0-A810-B069237EC1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ol pump (battery operated) may be used to drain the tubs, or they may be poured using a large funnel (and large personnel to lift).  Washwater ideally should be contained in sealed barrels following an event and held for testing to see if the chemicals present really do present a hazard (ra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761C-649C-49EA-B0A5-C63C56AB25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0601-101F-4995-8F5B-AE758B34CF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stress for the provider is a critical part of the recovery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36AB-CAD3-49F2-A341-6E4C633560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incident stress management is a tool that can be used to defuse stress after an inciden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FBDB-18E9-40C5-9931-588D8CA5F6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of the event should lead to changes in practice/planning for the nex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debrief or ‘hotwash’ should capture initial reactions as to what went well/poorly – a review sheet should be completed EVERY TIME the decon room is used for a hazmat in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ritique may involve additional interviews, examination of equipment, etc. and a written after-action plan may be developed depending on the size of the incid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9987-B3F5-43F0-A751-F423C5E78F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 name="PlaceHolder 1"/>
          <p:cNvSpPr>
            <a:spLocks noGrp="1"/>
          </p:cNvSpPr>
          <p:nvPr>
            <p:ph type="sldImg"/>
          </p:nvPr>
        </p:nvSpPr>
        <p:spPr>
          <a:xfrm>
            <a:off x="1217520" y="709560"/>
            <a:ext cx="4570560" cy="3427560"/>
          </a:xfrm>
          <a:prstGeom prst="rect">
            <a:avLst/>
          </a:prstGeom>
          <a:ln w="0">
            <a:noFill/>
          </a:ln>
        </p:spPr>
      </p:sp>
      <p:sp>
        <p:nvSpPr>
          <p:cNvPr id="151" name="PlaceHolder 2"/>
          <p:cNvSpPr>
            <a:spLocks noGrp="1"/>
          </p:cNvSpPr>
          <p:nvPr>
            <p:ph type="body"/>
          </p:nvPr>
        </p:nvSpPr>
        <p:spPr>
          <a:xfrm>
            <a:off x="457200" y="4406760"/>
            <a:ext cx="5943600" cy="4105440"/>
          </a:xfrm>
          <a:prstGeom prst="rect">
            <a:avLst/>
          </a:prstGeom>
          <a:noFill/>
          <a:ln w="0">
            <a:noFill/>
          </a:ln>
        </p:spPr>
        <p:txBody>
          <a:bodyPr lIns="84960" rIns="84960" tIns="42480" bIns="42480" anchor="t">
            <a:noAutofit/>
          </a:bodyPr>
          <a:p>
            <a: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100" spc="-1" strike="noStrike">
                <a:solidFill>
                  <a:srgbClr val="000000"/>
                </a:solidFill>
                <a:latin typeface="Arial"/>
              </a:rPr>
              <a:t>The recovery phase is often the least attended to of the phases of disaster, but can be the most important in many ways!</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153E-6EF0-4968-80A1-88F496CA9EE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 water is the best for hydration.  Avoid soda and other high-sugar or caffeinated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ion for all team memb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53B4-C4D3-4825-B3CD-D3849B0D5C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dical evaluation including full vital signs and screening medical exam is important for each team member after leaving the warm zon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784D-53C9-41DB-8B0C-0868F83418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the areas that are </a:t>
            </a:r>
            <a:r>
              <a:rPr b="0" lang="ja-JP" sz="1200" spc="-1" strike="noStrike">
                <a:solidFill>
                  <a:srgbClr val="000000"/>
                </a:solidFill>
                <a:latin typeface="Arial"/>
              </a:rPr>
              <a:t>‘</a:t>
            </a:r>
            <a:r>
              <a:rPr b="0" lang="en-US" sz="1200" spc="-1" strike="noStrike">
                <a:solidFill>
                  <a:srgbClr val="000000"/>
                </a:solidFill>
                <a:latin typeface="Arial"/>
              </a:rPr>
              <a:t>warm</a:t>
            </a:r>
            <a:r>
              <a:rPr b="0" lang="ja-JP" sz="1200" spc="-1" strike="noStrike">
                <a:solidFill>
                  <a:srgbClr val="000000"/>
                </a:solidFill>
                <a:latin typeface="Arial"/>
              </a:rPr>
              <a:t>’</a:t>
            </a:r>
            <a:r>
              <a:rPr b="0" lang="en-US" sz="1200" spc="-1" strike="noStrike">
                <a:solidFill>
                  <a:srgbClr val="000000"/>
                </a:solidFill>
                <a:latin typeface="Arial"/>
              </a:rPr>
              <a:t> and consultation with HAZMAT Group Supervisor / Safety manager is important to determine what needs to be d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3F1C-3370-4520-80EE-30B1DC1362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guarantee patients ANYTHING regarding their belongings.  In most cases, they will be able to get them back, but in some, everything may need to be destroy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5FB29-C122-40FD-8C25-FDFC0A43B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4F8C9-4B0A-4759-85BA-D0BF80A8D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54488-F859-4E0F-A0E7-C7E6CC031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9294A-6C5D-4A33-BA21-D664116D4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A8568-68AB-42B5-9DCD-757F6A1BC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42E42-44A4-4757-86FC-FE7B1E431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BA120-C15B-4DCF-9758-4D9D51AA4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CE279-3999-4D2D-AB92-A20C5498F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78861-8E3C-45FD-BE24-9C4C5D6F5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421FE-234C-46F5-A7D1-228A7DB98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05C90-9977-4E8B-9F81-4CF765824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01130-FE8E-45BA-9443-645FA24CA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C2EAE-FAB4-4576-86FC-C66991539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F0505-5A47-4872-AF02-DBC38BA31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BC3D9-E834-475B-AD64-E00FC1A85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40024-E682-451B-8C66-270E9A55B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93D48-332F-4DEF-8D56-F6607F6D3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D118-593F-4469-8C9F-90700CFD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F5D60-77CF-41E8-B6E3-B35BBE48B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0EF51-DE06-4DA2-86DA-3BCBB7A0D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0CDA4-3780-49CD-AE57-53445B8AE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1E778-7AAC-4368-AC92-ACEC78E4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7C0BE-D7A3-4D88-9C7A-326E1D4EC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8F6B1-1C61-4A58-96E6-97ABB59A6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1F59-15A2-4255-B9B1-3ABD66963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F975-F0D2-4322-9491-3D782CFDED9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Recovery after a </a:t>
            </a:r>
            <a:br>
              <a:rPr sz="4400"/>
            </a:br>
            <a:r>
              <a:rPr b="0" lang="en-US" sz="4400" spc="-1" strike="noStrike">
                <a:solidFill>
                  <a:srgbClr val="333399"/>
                </a:solidFill>
                <a:latin typeface="Tahoma"/>
              </a:rPr>
              <a:t>    HAZMAT incident</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ule 5</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spital HAZMAT Curriculum</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ions Training</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Clean-up</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internal clean up is possible:</a:t>
            </a:r>
            <a:endParaRPr b="0" lang="en-US" sz="32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instructions from HAZMAT group leader and poison control</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general, mop and wipe surfaces with 1:10 household bleach : water</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ntilate areas to outside – may need fans in shipping container outside Special Care</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irators may be wiped down with bleach solution diluted 1:10, discard canisters unless otherwise instructed.</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Clean-up</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internal clean-up is not possible:</a:t>
            </a:r>
            <a:endParaRPr b="0" lang="en-US" sz="32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ult with HAZMAT supervisor to determine appropriate actions</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l off areas that are contaminated as possible</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t possible to seal certain areas (eg: carpeting that needs cleaning) may consider covering with heavy plastic sheeting and taping edge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Washwater</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ontaminated washwater went down drain notif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Duty Officer (SDO) 651-649-5451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ty Officer will notify appropriate regulatory agencies (eg: Metropolitan Environmental Services Council, EPA)</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ed washwater barrels should be capped awaiting disposition</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pump detail"/>
          <p:cNvPicPr/>
          <p:nvPr/>
        </p:nvPicPr>
        <p:blipFill>
          <a:blip r:embed="rId1"/>
          <a:stretch/>
        </p:blipFill>
        <p:spPr>
          <a:xfrm>
            <a:off x="0" y="3809880"/>
            <a:ext cx="4038480" cy="3048120"/>
          </a:xfrm>
          <a:prstGeom prst="rect">
            <a:avLst/>
          </a:prstGeom>
          <a:ln w="0">
            <a:noFill/>
          </a:ln>
        </p:spPr>
      </p:pic>
      <p:pic>
        <p:nvPicPr>
          <p:cNvPr id="131" name="Picture 3" descr="pump setup"/>
          <p:cNvPicPr/>
          <p:nvPr/>
        </p:nvPicPr>
        <p:blipFill>
          <a:blip r:embed="rId2"/>
          <a:stretch/>
        </p:blipFill>
        <p:spPr>
          <a:xfrm>
            <a:off x="3581280" y="1828800"/>
            <a:ext cx="5562720" cy="3708360"/>
          </a:xfrm>
          <a:prstGeom prst="rect">
            <a:avLst/>
          </a:prstGeom>
          <a:ln w="0">
            <a:noFill/>
          </a:ln>
        </p:spPr>
      </p:pic>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5400" spc="-1" strike="noStrike">
                <a:solidFill>
                  <a:srgbClr val="333399"/>
                </a:solidFill>
                <a:latin typeface="Tahoma"/>
              </a:rPr>
              <a:t>Draining the tubs</a:t>
            </a:r>
            <a:endParaRPr b="0" lang="en-US" sz="5400" spc="-1" strike="noStrike">
              <a:solidFill>
                <a:srgbClr val="333399"/>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ifications</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spital safety manag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stewater notific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spital administration</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Documentation</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each patient decontaminated has the process documented in their nursing charting for billing and clinical purpos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cument staff involved for Safety Dept. / Employee Health and complete paperwork as needed for any adverse events or incidents that occurred</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Restocking</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that suits / gloves / boots are re-stocked with respira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battery use is documented on single-use batteries and NiCad batteries are recharged</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40" name="Picture 4" descr="Weep 01"/>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ISM Component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rehensive, systematic, and multi-tactic approach to managing traumatic stress within an organization or community</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event: Education, planning, protocol development, policy developmen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the same as response critique</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ISM Component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ing event: On-scene support services, one-on-ones, advice to command, support to staff</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event: One-on-ones, defusing, group sessions, spouse support, follow up servic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ro CISM team contac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st Metro MRCC 612 347 2123</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Objectives - Recovery</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ff rehabilit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uring the room and equip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uables and cloth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ning and washwat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fying the proper author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briefing and CIS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itique and Evaluation</a:t>
            </a:r>
            <a:endParaRPr b="0" lang="en-US" sz="4400" spc="-1" strike="noStrike">
              <a:solidFill>
                <a:srgbClr val="333399"/>
              </a:solidFill>
              <a:latin typeface="Tahoma"/>
            </a:endParaRPr>
          </a:p>
        </p:txBody>
      </p:sp>
      <p:sp>
        <p:nvSpPr>
          <p:cNvPr id="146" name="PlaceHolder 2"/>
          <p:cNvSpPr>
            <a:spLocks noGrp="1"/>
          </p:cNvSpPr>
          <p:nvPr>
            <p:ph/>
          </p:nvPr>
        </p:nvSpPr>
        <p:spPr>
          <a:xfrm>
            <a:off x="838080" y="1980720"/>
            <a:ext cx="7958160" cy="41864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use staff as need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brief staff following rest, hydration, and nutri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al critique of event with all staff who were involved as need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current plans, revise as neede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e lessons learned</a:t>
            </a: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Recovery Pearls</a:t>
            </a:r>
            <a:endParaRPr b="0" lang="en-US" sz="4400" spc="-1" strike="noStrike">
              <a:solidFill>
                <a:srgbClr val="333399"/>
              </a:solidFill>
              <a:latin typeface="Tahoma"/>
            </a:endParaRPr>
          </a:p>
        </p:txBody>
      </p:sp>
      <p:sp>
        <p:nvSpPr>
          <p:cNvPr id="148" name="PlaceHolder 2"/>
          <p:cNvSpPr>
            <a:spLocks noGrp="1"/>
          </p:cNvSpPr>
          <p:nvPr>
            <p:ph/>
          </p:nvPr>
        </p:nvSpPr>
        <p:spPr>
          <a:xfrm>
            <a:off x="609480" y="2017800"/>
            <a:ext cx="834552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d to the physical and psychological needs of staff</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fy the proper authorities if washwater sent down the drai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ure the warm area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gure out what to do with the </a:t>
            </a:r>
            <a:r>
              <a:rPr b="0" lang="ja-JP" sz="3200" spc="-1" strike="noStrike">
                <a:solidFill>
                  <a:srgbClr val="000000"/>
                </a:solidFill>
                <a:latin typeface="Tahoma"/>
              </a:rPr>
              <a:t>‘</a:t>
            </a:r>
            <a:r>
              <a:rPr b="0" lang="en-US" sz="3200" spc="-1" strike="noStrike">
                <a:solidFill>
                  <a:srgbClr val="000000"/>
                </a:solidFill>
                <a:latin typeface="Tahoma"/>
              </a:rPr>
              <a:t>warm</a:t>
            </a:r>
            <a:r>
              <a:rPr b="0" lang="ja-JP" sz="3200" spc="-1" strike="noStrike">
                <a:solidFill>
                  <a:srgbClr val="000000"/>
                </a:solidFill>
                <a:latin typeface="Tahoma"/>
              </a:rPr>
              <a:t>’</a:t>
            </a:r>
            <a:r>
              <a:rPr b="0" lang="en-US" sz="3200" spc="-1" strike="noStrike">
                <a:solidFill>
                  <a:srgbClr val="000000"/>
                </a:solidFill>
                <a:latin typeface="Tahoma"/>
              </a:rPr>
              <a:t> stuff</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tock</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brief, learn, adjust response plan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533520"/>
            <a:ext cx="7162920" cy="1218960"/>
          </a:xfrm>
          <a:prstGeom prst="rect">
            <a:avLst/>
          </a:prstGeom>
          <a:noFill/>
          <a:ln w="0">
            <a:noFill/>
          </a:ln>
        </p:spPr>
        <p:txBody>
          <a:bodyPr lIns="90360" rIns="90360" tIns="44280" bIns="4428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very Phase</a:t>
            </a:r>
            <a:endParaRPr b="0" lang="en-US" sz="4400" spc="-1" strike="noStrike">
              <a:solidFill>
                <a:srgbClr val="333399"/>
              </a:solidFill>
              <a:latin typeface="Tahoma"/>
            </a:endParaRPr>
          </a:p>
        </p:txBody>
      </p:sp>
      <p:sp>
        <p:nvSpPr>
          <p:cNvPr id="111" name="PlaceHolder 2"/>
          <p:cNvSpPr>
            <a:spLocks noGrp="1"/>
          </p:cNvSpPr>
          <p:nvPr>
            <p:ph/>
          </p:nvPr>
        </p:nvSpPr>
        <p:spPr>
          <a:xfrm>
            <a:off x="826560" y="2362320"/>
            <a:ext cx="7758360" cy="4038480"/>
          </a:xfrm>
          <a:prstGeom prst="rect">
            <a:avLst/>
          </a:prstGeom>
          <a:noFill/>
          <a:ln w="0">
            <a:noFill/>
          </a:ln>
        </p:spPr>
        <p:txBody>
          <a:bodyPr lIns="90360" rIns="90360" tIns="44280" bIns="4428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shifts from acute injury and illness to recovery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begin to plan for recovery even during response phas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spital staff physical and emotional needs are priority</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13" name="Picture 4" descr="Drink 01"/>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15" name="Picture 3" descr="post decon exam"/>
          <p:cNvPicPr/>
          <p:nvPr/>
        </p:nvPicPr>
        <p:blipFill>
          <a:blip r:embed="rId1"/>
          <a:stretch/>
        </p:blipFill>
        <p:spPr>
          <a:xfrm>
            <a:off x="152280" y="11160"/>
            <a:ext cx="8763120" cy="6846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tape door"/>
          <p:cNvPicPr/>
          <p:nvPr/>
        </p:nvPicPr>
        <p:blipFill>
          <a:blip r:embed="rId1"/>
          <a:stretch/>
        </p:blipFill>
        <p:spPr>
          <a:xfrm>
            <a:off x="4729320" y="0"/>
            <a:ext cx="4414680" cy="6858000"/>
          </a:xfrm>
          <a:prstGeom prst="rect">
            <a:avLst/>
          </a:prstGeom>
          <a:ln w="0">
            <a:noFill/>
          </a:ln>
        </p:spPr>
      </p:pic>
      <p:sp>
        <p:nvSpPr>
          <p:cNvPr id="117" name="Text Box 3"/>
          <p:cNvSpPr/>
          <p:nvPr/>
        </p:nvSpPr>
        <p:spPr>
          <a:xfrm>
            <a:off x="333720" y="2590920"/>
            <a:ext cx="41461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ecure the room</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nd other areas</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at are in the </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arm zone</a:t>
            </a:r>
            <a:endParaRPr b="0" lang="en-US" sz="4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Valuables and Clothing</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53528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possible, try to secure in room</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t, secure in other </a:t>
            </a:r>
            <a:r>
              <a:rPr b="0" lang="ja-JP" sz="2800" spc="-1" strike="noStrike">
                <a:solidFill>
                  <a:srgbClr val="000000"/>
                </a:solidFill>
                <a:latin typeface="Tahoma"/>
              </a:rPr>
              <a:t>‘</a:t>
            </a:r>
            <a:r>
              <a:rPr b="0" lang="en-US" sz="2800" spc="-1" strike="noStrike">
                <a:solidFill>
                  <a:srgbClr val="000000"/>
                </a:solidFill>
                <a:latin typeface="Tahoma"/>
              </a:rPr>
              <a:t>warm</a:t>
            </a:r>
            <a:r>
              <a:rPr b="0" lang="ja-JP" sz="2800" spc="-1" strike="noStrike">
                <a:solidFill>
                  <a:srgbClr val="000000"/>
                </a:solidFill>
                <a:latin typeface="Tahoma"/>
              </a:rPr>
              <a:t>’</a:t>
            </a:r>
            <a:r>
              <a:rPr b="0" lang="en-US" sz="2800" spc="-1" strike="noStrike">
                <a:solidFill>
                  <a:srgbClr val="000000"/>
                </a:solidFill>
                <a:latin typeface="Tahoma"/>
              </a:rPr>
              <a:t> area</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re that patients and bags are appropriately numbered</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ing on incident may be able to return:</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thing</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hing</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ables that can be washed, but not leather or other absorbent items</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Cleaning the </a:t>
            </a:r>
            <a:r>
              <a:rPr b="0" lang="ja-JP" sz="4400" spc="-1" strike="noStrike">
                <a:solidFill>
                  <a:srgbClr val="333399"/>
                </a:solidFill>
                <a:latin typeface="Tahoma"/>
              </a:rPr>
              <a:t>‘</a:t>
            </a:r>
            <a:r>
              <a:rPr b="0" lang="en-US" sz="4400" spc="-1" strike="noStrike">
                <a:solidFill>
                  <a:srgbClr val="333399"/>
                </a:solidFill>
                <a:latin typeface="Tahoma"/>
              </a:rPr>
              <a:t>Warm</a:t>
            </a:r>
            <a:r>
              <a:rPr b="0" lang="ja-JP" sz="4400" spc="-1" strike="noStrike">
                <a:solidFill>
                  <a:srgbClr val="333399"/>
                </a:solidFill>
                <a:latin typeface="Tahoma"/>
              </a:rPr>
              <a:t>’</a:t>
            </a:r>
            <a:r>
              <a:rPr b="0" lang="en-US" sz="4400" spc="-1" strike="noStrike">
                <a:solidFill>
                  <a:srgbClr val="333399"/>
                </a:solidFill>
                <a:latin typeface="Tahoma"/>
              </a:rPr>
              <a:t> Area</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uss with poison control and hazardous materials branch director (safety director) whether requires outside assist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spital safety director can obtain contractor assistance for cases where disposal/clean up is beyond facility capabilities</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quipment and Facility Decontamination</a:t>
            </a:r>
            <a:endParaRPr b="0" lang="en-US" sz="4400" spc="-1" strike="noStrike">
              <a:solidFill>
                <a:srgbClr val="333399"/>
              </a:solidFill>
              <a:latin typeface="Tahoma"/>
            </a:endParaRPr>
          </a:p>
        </p:txBody>
      </p:sp>
      <p:sp>
        <p:nvSpPr>
          <p:cNvPr id="123" name="PlaceHolder 2"/>
          <p:cNvSpPr>
            <a:spLocks noGrp="1"/>
          </p:cNvSpPr>
          <p:nvPr>
            <p:ph/>
          </p:nvPr>
        </p:nvSpPr>
        <p:spPr>
          <a:xfrm>
            <a:off x="837720" y="1981080"/>
            <a:ext cx="8029800" cy="42624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resources capable of testing contaminated run off and cleaning equipment and facility</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gathering and testing </a:t>
            </a:r>
            <a:endParaRPr b="0" lang="en-US" sz="28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mmendations for cleaning equipment and facilities</a:t>
            </a:r>
            <a:endParaRPr b="0" lang="en-US" sz="28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for cleaning equipment and facilities</a:t>
            </a:r>
            <a:endParaRPr b="0" lang="en-US" sz="28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consuming and costly</a:t>
            </a:r>
            <a:endParaRPr b="0" lang="en-US" sz="2800" spc="-1" strike="noStrike">
              <a:solidFill>
                <a:srgbClr val="000000"/>
              </a:solidFill>
              <a:latin typeface="Tahom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02:41:36Z</dcterms:created>
  <dc:creator>John L. Hick, MD</dc:creator>
  <dc:description/>
  <dc:language>en-US</dc:language>
  <cp:lastModifiedBy>Chell, Christine</cp:lastModifiedBy>
  <dcterms:modified xsi:type="dcterms:W3CDTF">2017-05-22T19:17:31Z</dcterms:modified>
  <cp:revision>13</cp:revision>
  <dc:subject/>
  <dc:title>Recovery after a      HAZMAT incident</dc:title>
</cp:coreProperties>
</file>